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735A-3307-460F-9DFE-7767D06DC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2524-CE10-4A53-93A0-D62BCD555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2646-A6C7-40F4-986B-2AF345B0F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319A-49E2-476F-9FC0-A4394A5B9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60AE-D885-412F-8EF2-9C4FA3F3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A9F3-1EA2-49E5-9DC4-856F94CD1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3529-EC09-4C9E-8ED0-5BD7687E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9902-AD84-4126-A547-B3A3B1BBC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F006-D1D9-4989-8325-E160DADB1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05CF-71B3-4C5B-9C9D-0F61994E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D1BB-C651-4D4E-9DD4-E5941F4B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7175-414F-451D-A2D3-9EA17FB7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6711E-E103-4B6E-B41A-E14FA5D7A5B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58920" y="620640"/>
            <a:ext cx="640080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Сан  т</a:t>
            </a:r>
            <a:r>
              <a:rPr b="0" lang="tt-RU" sz="6600" spc="-1" strike="noStrike">
                <a:solidFill>
                  <a:srgbClr val="ffffff"/>
                </a:solidFill>
                <a:latin typeface="Arial"/>
              </a:rPr>
              <a:t>өркемчәләре.Төп сан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800" spc="-1" strike="noStrike">
                <a:solidFill>
                  <a:srgbClr val="ffffff"/>
                </a:solidFill>
                <a:latin typeface="Arial"/>
              </a:rPr>
              <a:t>Бердәмлектә - көч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800" spc="-1" strike="noStrike">
                <a:solidFill>
                  <a:srgbClr val="ffffff"/>
                </a:solidFill>
                <a:latin typeface="Arial"/>
              </a:rPr>
              <a:t>Авызың әйткәнне-колагың ишетсен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800" spc="-1" strike="noStrike">
                <a:solidFill>
                  <a:srgbClr val="ffffff"/>
                </a:solidFill>
                <a:latin typeface="Arial"/>
              </a:rPr>
              <a:t>Хикмәт - күңел  күзендә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С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Предметның санын, исәбен белдерә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Ничә?Күпме? Никадәр?һ.б.сорауларына җавап булып килә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Сан ачыклаган исем  саналмыш дип ата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Ясалышы ягыннан тамыр, кушма, парлы,тезмә саннар бу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Саннар гарәп һәм рим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цифрлары бел</a:t>
            </a: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ән белдерелә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Сан төркемчәләре:мик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ъдар,тәртип,бүлем, чама, җыю саннар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3995640" y="836640"/>
            <a:ext cx="0" cy="504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>
            <a:off x="4067280" y="1844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>
            <a:off x="4140360" y="270828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Line 13"/>
          <p:cNvSpPr/>
          <p:nvPr/>
        </p:nvSpPr>
        <p:spPr>
          <a:xfrm>
            <a:off x="4140360" y="335772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Line 14"/>
          <p:cNvSpPr/>
          <p:nvPr/>
        </p:nvSpPr>
        <p:spPr>
          <a:xfrm>
            <a:off x="4211640" y="407664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Line 15"/>
          <p:cNvSpPr/>
          <p:nvPr/>
        </p:nvSpPr>
        <p:spPr>
          <a:xfrm>
            <a:off x="4284720" y="4797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Line 17"/>
          <p:cNvSpPr/>
          <p:nvPr/>
        </p:nvSpPr>
        <p:spPr>
          <a:xfrm>
            <a:off x="4356000" y="558972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6000" spc="-1" strike="noStrike">
                <a:solidFill>
                  <a:srgbClr val="ffffff"/>
                </a:solidFill>
                <a:latin typeface="Arial"/>
              </a:rPr>
              <a:t>Сүзлек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кыңгыр эш- ярамаган, ялган эш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әрҗә-кәрзин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ачы торма- яшелчә (редька)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мәкаль-пословиц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әйтем-поговорк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сынамыш-приме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200" spc="-1" strike="noStrike">
                <a:solidFill>
                  <a:srgbClr val="ffffff"/>
                </a:solidFill>
                <a:latin typeface="Arial"/>
              </a:rPr>
              <a:t>Халык авыз иҗаты(фольклор)- </a:t>
            </a: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аерым кешеләр тарафыннан иҗат ителеп,телдән-телгә күчеп йөргән әсәрләр җыелмас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56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Кыңгыр эш кырык елдан соң да беленә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Ике уйла , бер сөйлә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(Татар халык мәка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ьл</a:t>
            </a: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әр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Белемле кеше дүрт күзле бул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(Гагауз халык мәкал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Берәү- әрҗә турында, берәү- кәҗә турын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(Белорус халык мәкал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Унбишенче февра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ь</a:t>
            </a: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дә көн җылы булса,яз яхшы бу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</a:t>
            </a: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(Халык сынамышы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Бер имәндә өч ботак,ботак саен өчәр алма.Барысы ничә алм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(Сорау- табышма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Дүртләп туган бер түбә астында яшиләр.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</a:t>
            </a: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(Табышма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Сан төркемчәләр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Мик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ъдар саны(ничә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әртип саны(ничәнче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Бүлем саны(ничәшәр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Чама саны(ничәләп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Җыю саны(ничәү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4716360" y="134136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4716360" y="1916280"/>
            <a:ext cx="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Line 11"/>
          <p:cNvSpPr/>
          <p:nvPr/>
        </p:nvSpPr>
        <p:spPr>
          <a:xfrm>
            <a:off x="4788000" y="314172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Line 14"/>
          <p:cNvSpPr/>
          <p:nvPr/>
        </p:nvSpPr>
        <p:spPr>
          <a:xfrm>
            <a:off x="4716360" y="3933720"/>
            <a:ext cx="0" cy="3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Line 15"/>
          <p:cNvSpPr/>
          <p:nvPr/>
        </p:nvSpPr>
        <p:spPr>
          <a:xfrm>
            <a:off x="4716360" y="4941720"/>
            <a:ext cx="0" cy="3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ffff"/>
                </a:solidFill>
                <a:latin typeface="Arial"/>
              </a:rPr>
              <a:t>Утыз көн, бер бәхет, бер ре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цепт,</a:t>
            </a:r>
            <a:r>
              <a:rPr b="0" lang="tt-RU" sz="3600" spc="-1" strike="noStrike">
                <a:solidFill>
                  <a:srgbClr val="ffffff"/>
                </a:solidFill>
                <a:latin typeface="Arial"/>
              </a:rPr>
              <a:t>бер ачы кара торма,бер аш кашыгы бал,өч- дүрт тапкыр, унбиш- егерме минут,икешәр аш кашыг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600" spc="-1" strike="noStrike">
                <a:solidFill>
                  <a:srgbClr val="ffffff"/>
                </a:solidFill>
                <a:latin typeface="Arial"/>
              </a:rPr>
              <a:t>СӘЛАМӘТ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tt-RU" sz="3600" spc="-1" strike="noStrike">
                <a:solidFill>
                  <a:srgbClr val="ffffff"/>
                </a:solidFill>
                <a:latin typeface="Arial"/>
              </a:rPr>
              <a:t>ТӘНДӘ-              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i="1" lang="tt-RU" sz="3600" spc="-1" strike="noStrike">
                <a:solidFill>
                  <a:srgbClr val="ffffff"/>
                </a:solidFill>
                <a:latin typeface="Arial"/>
              </a:rPr>
              <a:t>СӘЛАМӘТ АКЫЛ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ffff"/>
                </a:solidFill>
                <a:latin typeface="Arial"/>
              </a:rPr>
              <a:t>1төркем-  күнегүдән төп саннарны табып язарг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t-RU" sz="3600" spc="-1" strike="noStrike">
                <a:solidFill>
                  <a:srgbClr val="ffffff"/>
                </a:solidFill>
                <a:latin typeface="Arial"/>
              </a:rPr>
              <a:t>2төркем – сәламәт булу рецепт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ffff"/>
                </a:solidFill>
                <a:latin typeface="Arial"/>
              </a:rPr>
              <a:t>3төркем – сәламәт кеше  нинди булырга тиеш? (рәсем, хикәя һ.б.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8T11:21:07Z</dcterms:created>
  <dc:creator>user</dc:creator>
  <dc:description/>
  <dc:language>en-US</dc:language>
  <cp:lastModifiedBy>Равил</cp:lastModifiedBy>
  <dcterms:modified xsi:type="dcterms:W3CDTF">2012-10-01T19:09:49Z</dcterms:modified>
  <cp:revision>5</cp:revision>
  <dc:subject/>
  <dc:title>Слайд 1</dc:title>
</cp:coreProperties>
</file>